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B82-6CF5-4A4D-BF29-6B732E90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634-2C06-47B2-B024-D48EAAB4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93BF-10AC-4DCB-ABDA-9850BA14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6D3-ECE5-421A-9F00-BF0D288D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82EC-EE04-40C0-AF7A-BE4997A2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7DE-142A-4F3C-AD9C-99FD456F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709F-BD87-4F6A-937D-84D84048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CFD6-FB55-4FB3-8CF1-24305015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7A7A-C4F5-497A-A3D1-C722ED91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447-9D22-43D7-8423-16626EEC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172E-5E28-4945-A89D-3C4B0E2D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2B07-D5F3-4025-AD7C-C10F9638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677C-8DB7-4638-9FBD-42614EC0B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6-337 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304776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cle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5638680"/>
            <a:ext cx="80773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4 – 305 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1982880" cy="2928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28576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at Milvian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5029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la and the H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257800" cy="5240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25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0" y="2143080"/>
            <a:ext cx="3333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1768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2:35:00Z</dcterms:created>
  <dc:creator>Darien Public Schools</dc:creator>
  <dc:description/>
  <dc:language>en-US</dc:language>
  <cp:lastModifiedBy>Darien Public Schools</cp:lastModifiedBy>
  <dcterms:modified xsi:type="dcterms:W3CDTF">2006-11-03T12:37:55Z</dcterms:modified>
  <cp:revision>2</cp:revision>
  <dc:subject/>
  <dc:title>Constantine</dc:title>
</cp:coreProperties>
</file>